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9DA-C7E4-4E12-85C6-B8111F3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921-A27D-438A-9729-D49AA0FF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2BC-3E5E-4AD3-86B7-447866CB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501-2CE5-4A76-8085-DC69FE2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56B-4750-496E-BEDE-159F13E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DB-9CFB-4A48-BFC1-1CF94AB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F37-F2CC-49B2-8E44-5FBB5ED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C10-E0CA-48CA-B3D7-B9C02CC1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AC8-2636-4918-9BE8-160EDEE6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37A-C469-4869-ABE1-6ABC0C76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0FB-6301-4830-A06A-D4925C6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EFA-B3F1-4762-B8AF-161F398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11D-1A70-4411-A5E6-8D42B0F318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TRABALH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E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ÍNGUA PORTUGUESA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HISTÓRI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VITALIN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4º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ÍNGUA PORTUGUE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XTO INSTRU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REGRA DE J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5" descr="images (1).jpg"/>
          <p:cNvPicPr/>
          <p:nvPr/>
        </p:nvPicPr>
        <p:blipFill>
          <a:blip r:embed="rId1"/>
          <a:stretch/>
        </p:blipFill>
        <p:spPr>
          <a:xfrm>
            <a:off x="1000080" y="2428920"/>
            <a:ext cx="3357720" cy="30002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6" descr="images (1).jpg"/>
          <p:cNvPicPr/>
          <p:nvPr/>
        </p:nvPicPr>
        <p:blipFill>
          <a:blip r:embed="rId2"/>
          <a:stretch/>
        </p:blipFill>
        <p:spPr>
          <a:xfrm>
            <a:off x="4357800" y="350028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spaço Reservado para Conteúdo 3" descr="Captura-de-tela-2013-05-06-às-11.58.53.png"/>
          <p:cNvPicPr/>
          <p:nvPr/>
        </p:nvPicPr>
        <p:blipFill>
          <a:blip r:embed="rId1"/>
          <a:stretch/>
        </p:blipFill>
        <p:spPr>
          <a:xfrm>
            <a:off x="357120" y="428760"/>
            <a:ext cx="8572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ço Reservado para Conteúdo 5" descr="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HISTÓRIA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FOTOS DE IVINH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NTI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m 3" descr="download (1).jpg"/>
          <p:cNvPicPr/>
          <p:nvPr/>
        </p:nvPicPr>
        <p:blipFill>
          <a:blip r:embed="rId1"/>
          <a:stretch/>
        </p:blipFill>
        <p:spPr>
          <a:xfrm>
            <a:off x="1000080" y="2357280"/>
            <a:ext cx="371484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phoca_thumb_l_img20110105_10343083_1600x1058.jpg"/>
          <p:cNvPicPr/>
          <p:nvPr/>
        </p:nvPicPr>
        <p:blipFill>
          <a:blip r:embed="rId2"/>
          <a:stretch/>
        </p:blipFill>
        <p:spPr>
          <a:xfrm>
            <a:off x="5715000" y="250020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Imagem 5" descr="images.jpg"/>
          <p:cNvPicPr/>
          <p:nvPr/>
        </p:nvPicPr>
        <p:blipFill>
          <a:blip r:embed="rId3"/>
          <a:stretch/>
        </p:blipFill>
        <p:spPr>
          <a:xfrm>
            <a:off x="357120" y="4500720"/>
            <a:ext cx="47865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TUAL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ço Reservado para Conteúdo 3" descr="download (2).jpg"/>
          <p:cNvPicPr/>
          <p:nvPr/>
        </p:nvPicPr>
        <p:blipFill>
          <a:blip r:embed="rId1"/>
          <a:stretch/>
        </p:blipFill>
        <p:spPr>
          <a:xfrm>
            <a:off x="4643280" y="4214880"/>
            <a:ext cx="399096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Imagem 4" descr="download (3).jpg"/>
          <p:cNvPicPr/>
          <p:nvPr/>
        </p:nvPicPr>
        <p:blipFill>
          <a:blip r:embed="rId2"/>
          <a:stretch/>
        </p:blipFill>
        <p:spPr>
          <a:xfrm>
            <a:off x="5500800" y="150012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Imagem 5" descr="download (4).jpg"/>
          <p:cNvPicPr/>
          <p:nvPr/>
        </p:nvPicPr>
        <p:blipFill>
          <a:blip r:embed="rId3"/>
          <a:stretch/>
        </p:blipFill>
        <p:spPr>
          <a:xfrm>
            <a:off x="142920" y="200016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18:33:08Z</dcterms:created>
  <dc:creator>usuario</dc:creator>
  <dc:description/>
  <dc:language>en-US</dc:language>
  <cp:lastModifiedBy>usuario</cp:lastModifiedBy>
  <dcterms:modified xsi:type="dcterms:W3CDTF">2016-04-28T19:01:26Z</dcterms:modified>
  <cp:revision>6</cp:revision>
  <dc:subject/>
  <dc:title>TRABALHO  DE LÍNGUA PORTUGUESA E  HISTÓRIA  VITALINO 4º C</dc:title>
</cp:coreProperties>
</file>